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CDC9-B875-427A-9639-A803722E9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869B-B321-4190-9E96-E65E95231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E217-2D80-48E1-B74A-3288DD909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E5BB-1E1F-48AF-8266-D05F55E17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FF655-C0B9-4472-8654-202CA30CC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C7F3E-75B0-4F31-86C2-759DB48FF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FB19B-F975-42AA-BEF1-010364FD8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2475F-4437-4B0F-B7D2-F5707CB75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C23B4-0854-4405-A6FF-7EC777ADD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4ED71-A025-452D-8E9C-112DFC2C8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DA36A-FE5B-4B33-B8E9-0E93E181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76AC-E458-4538-A981-8CAD2C6B5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FCEF3-09C0-4214-AF00-BD9C045C0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1086D-C1BB-443F-88EB-0B164851D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822E3-729A-41BF-B7EF-D0D79B5FF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C2714-C72F-4D9A-B4D7-CD4E3FDC3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B27A5-3D57-43B7-B170-ECB150D61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1188-1AF7-4FD7-9897-42183962B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1D85-0527-471A-B6BC-23D84A93E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EACF-3598-4EB1-A7C9-EF8534B42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5C59-A421-47C9-B036-AAF083C9A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72F7-28BE-456D-BA7B-8DCF3E463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8CE1-F106-4E2C-BAC1-C9EF81D2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142F-4F46-432C-8345-69A033B83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4e75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A02F8-8579-4184-9DD0-021240606E4A}" type="slidenum">
              <a:rPr b="1" lang="en-US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4e75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495B7-311B-4BAB-AABA-59FD177FC877}" type="slidenum">
              <a:rPr b="1" lang="en-US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38360" y="1233360"/>
            <a:ext cx="7974000" cy="198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274e75"/>
                </a:solidFill>
                <a:latin typeface="Times New Roman"/>
              </a:rPr>
              <a:t>Problem rezistencije </a:t>
            </a:r>
            <a:r>
              <a:rPr b="1" i="1" lang="sr-Latn-CS" sz="3000" spc="-1" strike="noStrike">
                <a:solidFill>
                  <a:srgbClr val="274e75"/>
                </a:solidFill>
                <a:latin typeface="Times New Roman"/>
              </a:rPr>
              <a:t>Salmonella</a:t>
            </a:r>
            <a:r>
              <a:rPr b="1" lang="sr-Latn-CS" sz="3000" spc="-1" strike="noStrike">
                <a:solidFill>
                  <a:srgbClr val="274e75"/>
                </a:solidFill>
                <a:latin typeface="Times New Roman"/>
              </a:rPr>
              <a:t>, </a:t>
            </a:r>
            <a:r>
              <a:rPr b="1" i="1" lang="sr-Latn-CS" sz="3000" spc="-1" strike="noStrike">
                <a:solidFill>
                  <a:srgbClr val="274e75"/>
                </a:solidFill>
                <a:latin typeface="Times New Roman"/>
              </a:rPr>
              <a:t>Shigella</a:t>
            </a:r>
            <a:r>
              <a:rPr b="1" lang="sr-Latn-CS" sz="3000" spc="-1" strike="noStrike">
                <a:solidFill>
                  <a:srgbClr val="274e75"/>
                </a:solidFill>
                <a:latin typeface="Times New Roman"/>
              </a:rPr>
              <a:t>, </a:t>
            </a:r>
            <a:r>
              <a:rPr b="1" i="1" lang="sr-Latn-CS" sz="3000" spc="-1" strike="noStrike">
                <a:solidFill>
                  <a:srgbClr val="274e75"/>
                </a:solidFill>
                <a:latin typeface="Times New Roman"/>
              </a:rPr>
              <a:t>Campylobacter</a:t>
            </a:r>
            <a:r>
              <a:rPr b="1" lang="sr-Latn-CS" sz="3000" spc="-1" strike="noStrike">
                <a:solidFill>
                  <a:srgbClr val="274e75"/>
                </a:solidFill>
                <a:latin typeface="Times New Roman"/>
              </a:rPr>
              <a:t> i </a:t>
            </a:r>
            <a:r>
              <a:rPr b="1" i="1" lang="sr-Latn-CS" sz="3000" spc="-1" strike="noStrike">
                <a:solidFill>
                  <a:srgbClr val="274e75"/>
                </a:solidFill>
                <a:latin typeface="Times New Roman"/>
              </a:rPr>
              <a:t>Yersinia enterocolitica</a:t>
            </a:r>
            <a:r>
              <a:rPr b="1" lang="sr-Latn-CS" sz="3000" spc="-1" strike="noStrike">
                <a:solidFill>
                  <a:srgbClr val="274e75"/>
                </a:solidFill>
                <a:latin typeface="Times New Roman"/>
              </a:rPr>
              <a:t> </a:t>
            </a:r>
            <a:br>
              <a:rPr sz="3000"/>
            </a:br>
            <a:r>
              <a:rPr b="1" lang="sr-Latn-CS" sz="3000" spc="-1" strike="noStrike">
                <a:solidFill>
                  <a:srgbClr val="274e75"/>
                </a:solidFill>
                <a:latin typeface="Times New Roman"/>
              </a:rPr>
              <a:t>na antimikrobne lekove</a:t>
            </a:r>
            <a:endParaRPr b="0" lang="en-US" sz="30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3877920"/>
            <a:ext cx="9144000" cy="56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333333"/>
                </a:solidFill>
                <a:latin typeface="Eurostile"/>
              </a:rPr>
              <a:t>D</a:t>
            </a:r>
            <a:r>
              <a:rPr b="1" lang="en-US" sz="2400" spc="-1" strike="noStrike">
                <a:solidFill>
                  <a:srgbClr val="333333"/>
                </a:solidFill>
                <a:latin typeface="Eurostile"/>
              </a:rPr>
              <a:t>r </a:t>
            </a:r>
            <a:r>
              <a:rPr b="1" lang="sr-Latn-CS" sz="2400" spc="-1" strike="noStrike">
                <a:solidFill>
                  <a:srgbClr val="333333"/>
                </a:solidFill>
                <a:latin typeface="Eurostile"/>
              </a:rPr>
              <a:t>sc. med </a:t>
            </a:r>
            <a:r>
              <a:rPr b="1" lang="en-US" sz="2400" spc="-1" strike="noStrike">
                <a:solidFill>
                  <a:srgbClr val="333333"/>
                </a:solidFill>
                <a:latin typeface="Eurostile"/>
              </a:rPr>
              <a:t>Ljiljana Pavlović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84" name="Rectangle 12"/>
          <p:cNvSpPr/>
          <p:nvPr/>
        </p:nvSpPr>
        <p:spPr>
          <a:xfrm>
            <a:off x="0" y="3249720"/>
            <a:ext cx="9144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Group 14"/>
          <p:cNvGrpSpPr/>
          <p:nvPr/>
        </p:nvGrpSpPr>
        <p:grpSpPr>
          <a:xfrm>
            <a:off x="2984400" y="5611680"/>
            <a:ext cx="2953080" cy="649440"/>
            <a:chOff x="2984400" y="5611680"/>
            <a:chExt cx="2953080" cy="649440"/>
          </a:xfrm>
        </p:grpSpPr>
        <p:pic>
          <p:nvPicPr>
            <p:cNvPr id="86" name="Picture 10" descr="znak"/>
            <p:cNvPicPr/>
            <p:nvPr/>
          </p:nvPicPr>
          <p:blipFill>
            <a:blip r:embed="rId1"/>
            <a:stretch/>
          </p:blipFill>
          <p:spPr>
            <a:xfrm>
              <a:off x="2984400" y="5611680"/>
              <a:ext cx="649080" cy="6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3"/>
            <p:cNvSpPr/>
            <p:nvPr/>
          </p:nvSpPr>
          <p:spPr>
            <a:xfrm>
              <a:off x="3615480" y="5670360"/>
              <a:ext cx="2322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400" spc="-1" strike="noStrike">
                  <a:solidFill>
                    <a:srgbClr val="1b3753"/>
                  </a:solidFill>
                  <a:latin typeface="Arial Narrow"/>
                </a:rPr>
                <a:t>Institut za javno zdravlje Srbij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b3753"/>
                  </a:solidFill>
                  <a:latin typeface="Arial Narrow"/>
                </a:rPr>
                <a:t>“</a:t>
              </a:r>
              <a:r>
                <a:rPr b="1" lang="sr-Latn-CS" sz="1400" spc="-1" strike="noStrike">
                  <a:solidFill>
                    <a:srgbClr val="1b3753"/>
                  </a:solidFill>
                  <a:latin typeface="Arial Narrow"/>
                </a:rPr>
                <a:t>Dr Milan Jovanović Batut</a:t>
              </a:r>
              <a:r>
                <a:rPr b="1" lang="en-US" sz="1400" spc="-1" strike="noStrike">
                  <a:solidFill>
                    <a:srgbClr val="1b3753"/>
                  </a:solidFill>
                  <a:latin typeface="Arial Narrow"/>
                </a:rPr>
                <a:t>"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467640"/>
            <a:ext cx="91440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274e75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42480" y="1252440"/>
            <a:ext cx="767556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Infekcija </a:t>
            </a:r>
            <a:r>
              <a:rPr b="1" i="1" lang="sr-Latn-CS" sz="2000" spc="-1" strike="noStrike">
                <a:solidFill>
                  <a:srgbClr val="000000"/>
                </a:solidFill>
                <a:latin typeface="Times New Roman"/>
              </a:rPr>
              <a:t>S. Enteritidis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kod živine se lokalizuje u jajnicima i tkivu gornjih delova jajovoda, prenosi se na jaje u toku njegovog formiranja, a pre depozicije ljuske, rezultujući kontaminacijom albumena i žumanceta.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Netifoidne salmonele žive u crevima većine životinja koje se koriste za ljudsku ishranu, tako da može da dođe do kontaminacije sirovog mesa i produkata od mesa tokom procesa klanja i obrade.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Rezervoari netifoidnih salmonela mogu biti i egzotični kućni ljubimci, posebno reptili (kornjače, iguane, gušteri, zmije).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Izloženost hrani za životinje, takođe, predstavlja potencijalni izvor humanih salmoneloza. 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127080" y="67284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274e75"/>
                </a:solidFill>
                <a:latin typeface="Arial"/>
              </a:rPr>
              <a:t>       </a:t>
            </a:r>
            <a:endParaRPr b="0" lang="en-US" sz="30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92080" y="1222200"/>
            <a:ext cx="777240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Višestruka rezistencija (MDR) među humanim netifoidnim izolatima salmonela je u porastu.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Devedesetih godina prošlog veka posebno zabrinjavajuća je bila pojava MDR soja </a:t>
            </a:r>
            <a:r>
              <a:rPr b="1" i="1" lang="sr-Latn-C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. Typhimurium definitivnog fagnog tipa 104 (DT 104) koji je rezistentan na najmanje pet antibiotika - ampicilin, hloramfenikol, streptomicin, sulfonamide i tetracikline (R-tip ACSSuT). 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DT 104 soj ima širok spektar domaćina i njegova široko rasprostranjena klonalna diseminacija kod stoke, posebno goveda i krava, je verovatno bila promovisana upotrebom antibiotika na farmama, kako u terapeutske svrhe, tako i kao faktori rasta.  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Sticanje </a:t>
            </a:r>
            <a:r>
              <a:rPr b="1" i="1" lang="sr-Latn-C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. Typhimurium DT 104 je udruženo sa izlaganjem bolesnim životinjama na farmama, kao i različitim produktima od mesa, uključujući sirovo i nedovoljno termički obrađeno mleveno meso. 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 algn="just">
              <a:lnSpc>
                <a:spcPct val="9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127080" y="67284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274e75"/>
                </a:solidFill>
                <a:latin typeface="Arial"/>
              </a:rPr>
              <a:t>       </a:t>
            </a:r>
            <a:endParaRPr b="0" lang="en-US" sz="30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5480" y="1104480"/>
            <a:ext cx="766764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Infekcija sa DT 104 je udružena sa povećanim rizikom od infekcija krvi i hospitalizacije, verovatno kao posledica neadekvatne empirijske antimikrobne terapije.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Sve se češće prijavljuju sporadični slučajevi i epidemije uzrokovani netifoidnim salmonelama rezistentnim na treću generaciju cefalosporina. Rezistencija je posredovana transferabilnim plazmidom koji nosi ampC gen, verovatno stečen horizontalnim genetskim transferom od sojeva </a:t>
            </a:r>
            <a:r>
              <a:rPr b="1" i="1" lang="sr-Latn-CS" sz="2000" spc="-1" strike="noStrike">
                <a:solidFill>
                  <a:srgbClr val="000000"/>
                </a:solidFill>
                <a:latin typeface="Times New Roman"/>
              </a:rPr>
              <a:t>Escherichia coli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kod životinja koje se koriste za ishranu ljudi i povezana je sa širokom upotrebom veterinarskog cefalosporina CEFTIOFUR-a.  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Nakon odobravanja upotrebe ENROFOKSACIN-a u                   veterini došlo je do porasta incidencije rezistencije                     netifoidnih salmonela na ciprofloksacin.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 algn="just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127080" y="67284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74e75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90200" y="1095480"/>
            <a:ext cx="778500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Neonatusi imaju visok rizik za feko-oralnu transmisiju zbog relativne gastrične ahlorhidrije i puferskog kapaciteta ingestiranog majčinog mleka ili formule. 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Visok sadržaj gvožđa u infant formuli može dalje da poveća rizik kod infanata koji se hrane formulom u odnosu na one koji se hrane majčinim mlekom.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Osobe koje žive u domovima za stara lica i domovima za negu imaju povećan rizik od salmoneloza, kao i povećan rizik od ozbiljnijeg morbiditeta i mortaliteta, zbog prisustva hroničnih oboljenja, supresije gastrične kiselosti usled medikacije i iščezavanja imuniteta.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 algn="just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800" spc="-1" strike="noStrike">
                <a:solidFill>
                  <a:srgbClr val="274e75"/>
                </a:solidFill>
                <a:latin typeface="Times New Roman"/>
              </a:rPr>
              <a:t>Patogeneza</a:t>
            </a:r>
            <a:endParaRPr b="0" lang="en-US" sz="4800" spc="-1" strike="noStrike">
              <a:solidFill>
                <a:srgbClr val="274e75"/>
              </a:solidFill>
              <a:latin typeface="Impact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682920"/>
            <a:ext cx="91440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274e75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90640" y="1673280"/>
            <a:ext cx="777240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Salmonela infekcije počinju ingestijom bakterija kontaminiranom hranom ili vodom.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U studijama na zdravim dobrovoljcima kojima su administrirani laboratorijski sojevi salmonela, prosečna doza potrebna za nastanak oboljenja je iznosila oko 10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bakterija. 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Veličina inokuluma je značajna determinanta dužine inkubacionog perioda i težine kliničke slike.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127080" y="67284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274e75"/>
                </a:solidFill>
                <a:latin typeface="Arial"/>
              </a:rPr>
              <a:t>           </a:t>
            </a:r>
            <a:r>
              <a:rPr b="1" lang="sr-Latn-CS" sz="2400" spc="-1" strike="noStrike">
                <a:solidFill>
                  <a:srgbClr val="274e75"/>
                </a:solidFill>
                <a:latin typeface="Arial"/>
              </a:rPr>
              <a:t>Interakcije sa intestinalnim epitelom i indukcija enteritisa</a:t>
            </a:r>
            <a:endParaRPr b="0" lang="en-US" sz="24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90640" y="1685880"/>
            <a:ext cx="777240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Salmonele moraju da izbegnu antimikrobne faktore domaćina koji se sekretuju u intestinalni lumen (antimikrobni peptidi, žučne soli, sekretorni IgA) i prođu kroz mukusnu zaštitnu barijeru pre nego što stignu do intestinalnih epitelnih ćelija.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Smatra se da su M ćelije glavno mesto ulaska salmonela kod sindroma enterične groznice, dok generalna invazija enterocita ima veću ulogu kod enteritisa indukovanog netifoidnim salmonela serotipovima.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Pored invazije intestinalnih epitelnih ćelija, salmonela serotipovi klinički udruženi sa gastroenteritisom indukuju sekretorni odgovor u intestinalnom epitelu i iniciraju transmigraciju neutrofila u intestinalni lumen.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 algn="just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127080" y="67284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274e75"/>
                </a:solidFill>
                <a:latin typeface="Arial"/>
              </a:rPr>
              <a:t>Interakcije sa makrofagima i sistemska infekcija</a:t>
            </a:r>
            <a:endParaRPr b="0" lang="en-US" sz="24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03160" y="1182600"/>
            <a:ext cx="777240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Nakon prolaska kroz epitelnu barijeru, salmonele ulaze u makrofage prisutne u submukoznom prostoru i    Peyer-ovim pločama.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Sposobnost salmonela da opstanu i da se razmnožavaju unutar makrofaga je od esencijalne važnosti za diseminaciju u domaćinu i indukciju sistemskog oboljenja. Kod osoba sa enteričnom groznicom i pozitivnim hemokulturama, većina salmonela bakterija se nalazi unutar mononuklearne frakcije.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800" spc="-1" strike="noStrike">
                <a:solidFill>
                  <a:srgbClr val="274e75"/>
                </a:solidFill>
                <a:latin typeface="Times New Roman"/>
              </a:rPr>
              <a:t>Kliničke manifestacije</a:t>
            </a:r>
            <a:endParaRPr b="0" lang="en-US" sz="4800" spc="-1" strike="noStrike">
              <a:solidFill>
                <a:srgbClr val="274e75"/>
              </a:solidFill>
              <a:latin typeface="Impact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682920"/>
            <a:ext cx="91440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274e75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04840" y="1577880"/>
            <a:ext cx="777240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Enterična groznica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Gastroenteritis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Bakteremija i vaskularna infekcija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Fokalne infekcije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Status kliconoštva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800" spc="-1" strike="noStrike">
                <a:solidFill>
                  <a:srgbClr val="274e75"/>
                </a:solidFill>
                <a:latin typeface="Times New Roman"/>
              </a:rPr>
              <a:t>Salmonella spp.</a:t>
            </a:r>
            <a:endParaRPr b="0" lang="en-US" sz="4800" spc="-1" strike="noStrike">
              <a:solidFill>
                <a:srgbClr val="274e75"/>
              </a:solidFill>
              <a:latin typeface="Impact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127080" y="67284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274e75"/>
                </a:solidFill>
                <a:latin typeface="Arial"/>
              </a:rPr>
              <a:t>    </a:t>
            </a:r>
            <a:r>
              <a:rPr b="1" lang="sr-Latn-CS" sz="2400" spc="-1" strike="noStrike">
                <a:solidFill>
                  <a:srgbClr val="274e75"/>
                </a:solidFill>
                <a:latin typeface="Arial"/>
              </a:rPr>
              <a:t>Enterična groznica (tifus i paratifus)</a:t>
            </a:r>
            <a:endParaRPr b="0" lang="en-US" sz="24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43120" y="1496880"/>
            <a:ext cx="777240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Trajno povišena telesna temperatura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Glavobolja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Bradikardija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Neproduktivni kašalj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Proliv, opstipacija, malaksalost ili bolovi u trbuhu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Paratifus ima kliničke znakove slične trbušnom tifusu, 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ali uobičajeno blažeg intenziteta.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Lab. dijagnoza enterične groznice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: izolacija </a:t>
            </a: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. Typhi ili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.Paratyphi A, B, C iz krvi, koštane srži, drugog sterilnog 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mesta, kožne promene ili intestinalnih sekreta.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 algn="just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127080" y="67284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274e75"/>
                </a:solidFill>
                <a:latin typeface="Arial"/>
              </a:rPr>
              <a:t>Gastroenteritis</a:t>
            </a:r>
            <a:endParaRPr b="0" lang="en-US" sz="24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03160" y="1182600"/>
            <a:ext cx="777240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Infekcija netifoidnom salmonelom najčešće rezultira samo-ograničavajućim gastoenteritisom (dijareja, povišena T, bolovi u trbuhu, povraćanje).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Dijareja tipično traje 3 do 7 dana. Ukoliko perzistira duže može da ukaže na drugu dijagnozu.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Nakon rezolucije gastroenteritisa prosečno trajanje kliconoštva netifoidnih salmonela u stolici iznosi oko 4 nedelje.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Antimikrobna terapija može da produži trajanje kliconoštva.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 algn="just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127080" y="67284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274e75"/>
                </a:solidFill>
                <a:latin typeface="Arial"/>
              </a:rPr>
              <a:t>Bakteremija i vaskularna infekcija</a:t>
            </a:r>
            <a:endParaRPr b="0" lang="en-US" sz="24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9480" y="1282680"/>
            <a:ext cx="777240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Do 8% pacijenata sa netifoidnim salmonela gastroenetritisom razvija bakteremiju, a od njih 5-10% fokalne infekcije. 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Rizik od endovaskularne infekcije, kao komplikacije salmonela bakteremije, iznosi oko 9-25% kod osoba starijih od 50 godina, obično zahvata aortu i najčešće je rezultat rasejavanja iz aterosklerotičnih plakova ili aneurizmi. 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Mortalitet iznosi 14-60% i niži je u slučaju promptne dijagnoze i kombinovane antimikrobne i hirurške terapije. 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 algn="just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127080" y="67284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274e75"/>
                </a:solidFill>
                <a:latin typeface="Arial"/>
              </a:rPr>
              <a:t>Kliconoštvo</a:t>
            </a:r>
            <a:endParaRPr b="0" lang="en-US" sz="24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79480" y="1282680"/>
            <a:ext cx="777240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Stanje hroničnog kliconoštva se definiše kao perzistencija salmonela u stolici ili urinu duže od godinu dana. 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Oko 10% nelečenih pacijenata sa tifoidnom groznicom izlučuje </a:t>
            </a: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. Typhi fecesom do 3 meseca, a kod 1-4% pacijenata dolazi do razvoja hroničnog kliconoštva. 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Kod 0.2-0.6% pacijenata sa netifoidnom salmonela infekcijom dolazi do razvoja hroničnog kliconoštva.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 algn="just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127080" y="67284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274e75"/>
                </a:solidFill>
                <a:latin typeface="Arial"/>
              </a:rPr>
              <a:t>Kliconoštvo kod dece</a:t>
            </a:r>
            <a:endParaRPr b="0" lang="en-US" sz="24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9480" y="1282680"/>
            <a:ext cx="777240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Prosečna dužina trajanja netifoidnog kliconoštva kod dece mlađe od 5 godina iznosi 7 nedelja, dok 18% dece ostaje kultura pozitivno nakon 6 meseci.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Kliconoštvo je kraće kod starije dece i prosečno iznosi oko 4 nedelje, pri čemu samo 0.3% ostaje kultura pozitivno nakon 6 meseci.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Hronično kliconoštvo (duže od godinu dana) se dešava kod 2.6% dece mlađe od 5 godina i 0.3 % starije dece.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 algn="just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800" spc="-1" strike="noStrike">
                <a:solidFill>
                  <a:srgbClr val="274e75"/>
                </a:solidFill>
                <a:latin typeface="Times New Roman"/>
              </a:rPr>
              <a:t>Antimikrobna terapija</a:t>
            </a:r>
            <a:endParaRPr b="0" lang="en-US" sz="4800" spc="-1" strike="noStrike">
              <a:solidFill>
                <a:srgbClr val="274e75"/>
              </a:solidFill>
              <a:latin typeface="Impact"/>
            </a:endParaRPr>
          </a:p>
        </p:txBody>
      </p:sp>
    </p:spTree>
  </p:cSld>
  <p:transition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449280"/>
            <a:ext cx="914400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274e75"/>
                </a:solidFill>
                <a:latin typeface="Arial"/>
              </a:rPr>
              <a:t>Tifoidna groznica</a:t>
            </a:r>
            <a:endParaRPr b="0" lang="en-US" sz="30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58600" y="1401840"/>
            <a:ext cx="733428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Rana dijagnoza i promptna administracija adekvatne antimikrobne terapije sprečava ozbiljne komplikacije tifoidne groznice i rezultira mortalitetom manjim od 1%.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Fluorohinoloni su najefektivnija klasa antibiotika za lečenje tifoidne groznice uzrokovane osetljivim sojevima (MIK ciprofloksacina </a:t>
            </a:r>
            <a:r>
              <a:rPr b="1" lang="sr-Latn-C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0.06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/ml)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sa stepenom izlečenja oko 98% i stepenom relapsa i fekalnog kliconoštv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%. 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Pored fluorohinolona, preporučen antimikrobni tretman za tifoidnu groznicu obuhvata ampicilin, trimetoprim-sulfametoksazol, ceftriakson, cefotaksim i hloramfenikol (prema antibiogramu).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793800"/>
            <a:ext cx="91440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274e75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58600" y="1616040"/>
            <a:ext cx="733428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Uprkos efikasnom ubijanju salmonela u </a:t>
            </a: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in vitro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uslovima, prva i druga generacija cefalosporina i aminoglikozidi nisu efektivni u lečenju kliničkih infekcija.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Oko 1-4% pacijenata koji razviju hronično nosilaštvo </a:t>
            </a: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. Typhi mogu biti lečeni 4-6 nedelja adekvatnom oralnom antimikrobnom terapijom (prema antibiogramu).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793800"/>
            <a:ext cx="91440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274e75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58600" y="1616040"/>
            <a:ext cx="733428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Tretman oralnim amoksicilinom, trimetoprim-sulfametoksazolom ili ciprofloksacinom se pokazao oko 80% efektivnim u eradikaciji hroničnog kliconoštva osetljivih sojeva </a:t>
            </a: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. Typhi.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Antimikrobni lekovi su retko efektivni u eradikaciji kliconoštva kada su prisutne anatomske abnormalnosti (kamen u žučnoj kesi ili bubregu). 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U takvim slučajevima hirurški tretman kombinovan sa antimikrobnom terapijom je često potreban za eradikaciju.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342720"/>
            <a:ext cx="9144000" cy="75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274e75"/>
                </a:solidFill>
                <a:latin typeface="Arial"/>
              </a:rPr>
              <a:t>Netifoidne salmoneloze</a:t>
            </a:r>
            <a:endParaRPr b="0" lang="en-US" sz="30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58600" y="1377720"/>
            <a:ext cx="733428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od nekomplikovanih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gastroenteritis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tibiotici se ne preporučuju, jer njihova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primen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rodužava vreme izlučivanja salmonela stolicom i povećava broj sojeva rezistentnih na antimikrobne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lekove.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terične groznice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, ka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 teške i komplikovane slučajeve netifoidnih salmoneloza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ptikemija, fokalne infekcije, teški oblici bolesti kod male dece, stari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j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 i imunokompromitovanih osoba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reba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lečiti antibioticim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picilin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imetoprim/sulfametoksazol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- prema antibiogramu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Alternativni antibiotici su fluorohinoloni i cefalosporini III generacije – prema antibiogramu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127080" y="67284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74e75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03160" y="1182600"/>
            <a:ext cx="777240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od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almonell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j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deljen na dve vrste: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almonella enteric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almonella bongor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 okviru vrst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almonella enterica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razlikuje s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6 podvrsta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subspeciesa)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000000"/>
                </a:solidFill>
                <a:latin typeface="Times New Roman"/>
              </a:rPr>
              <a:t>Salmonella enterica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subsp</a:t>
            </a:r>
            <a:r>
              <a:rPr b="1" i="1" lang="sr-Latn-CS" sz="2000" spc="-1" strike="noStrike">
                <a:solidFill>
                  <a:srgbClr val="000000"/>
                </a:solidFill>
                <a:latin typeface="Times New Roman"/>
              </a:rPr>
              <a:t>. enterica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(I), 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000000"/>
                </a:solidFill>
                <a:latin typeface="Times New Roman"/>
              </a:rPr>
              <a:t>Salmonella enterica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subsp</a:t>
            </a:r>
            <a:r>
              <a:rPr b="1" i="1" lang="sr-Latn-CS" sz="2000" spc="-1" strike="noStrike">
                <a:solidFill>
                  <a:srgbClr val="000000"/>
                </a:solidFill>
                <a:latin typeface="Times New Roman"/>
              </a:rPr>
              <a:t>. salamae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(II), 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000000"/>
                </a:solidFill>
                <a:latin typeface="Times New Roman"/>
              </a:rPr>
              <a:t>Salmonella enterica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subsp</a:t>
            </a:r>
            <a:r>
              <a:rPr b="1" i="1" lang="sr-Latn-CS" sz="2000" spc="-1" strike="noStrike">
                <a:solidFill>
                  <a:srgbClr val="000000"/>
                </a:solidFill>
                <a:latin typeface="Times New Roman"/>
              </a:rPr>
              <a:t>. arizonae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(IIIa), 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000000"/>
                </a:solidFill>
                <a:latin typeface="Times New Roman"/>
              </a:rPr>
              <a:t>Salmonella enterica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subsp</a:t>
            </a:r>
            <a:r>
              <a:rPr b="1" i="1" lang="sr-Latn-CS" sz="2000" spc="-1" strike="noStrike">
                <a:solidFill>
                  <a:srgbClr val="000000"/>
                </a:solidFill>
                <a:latin typeface="Times New Roman"/>
              </a:rPr>
              <a:t>. diarizonae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(IIIb), 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000000"/>
                </a:solidFill>
                <a:latin typeface="Times New Roman"/>
              </a:rPr>
              <a:t>Salmonella enterica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subsp</a:t>
            </a:r>
            <a:r>
              <a:rPr b="1" i="1" lang="sr-Latn-CS" sz="2000" spc="-1" strike="noStrike">
                <a:solidFill>
                  <a:srgbClr val="000000"/>
                </a:solidFill>
                <a:latin typeface="Times New Roman"/>
              </a:rPr>
              <a:t>. houtenae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(IV) i 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000000"/>
                </a:solidFill>
                <a:latin typeface="Times New Roman"/>
              </a:rPr>
              <a:t>Salmonella enterica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subsp</a:t>
            </a:r>
            <a:r>
              <a:rPr b="1" i="1" lang="sr-Latn-CS" sz="2000" spc="-1" strike="noStrike">
                <a:solidFill>
                  <a:srgbClr val="000000"/>
                </a:solidFill>
                <a:latin typeface="Times New Roman"/>
              </a:rPr>
              <a:t>. indica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(VI).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 algn="just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590400"/>
            <a:ext cx="91440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274e75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04680" y="1224000"/>
            <a:ext cx="757692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Tretman osoba sa asimptomatskim nosilaštvom netifoidnih salmonela je kontroverzan. 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U randomizovanoj, placebo kontrolisanoj studiji spovedenoj na Tajlandu među asimptomatskim radnicima koji rukuju hranom, dva petodnevna antimikrobna režima su pokazala slične rezultate kao placebo u eradikaciji netifoidnog salmonela kliconoštva, bili su udruženi sa višim nivoima reinfekcije i sa selekcijom rezistentnih izolata.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Tretman rekonvalescentnog kliconoštva kod dece nije bio predmet randomizovanih kontrolisanih studija, ali se generalno ne preporučuje.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652320"/>
            <a:ext cx="914400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274e75"/>
                </a:solidFill>
                <a:latin typeface="Arial"/>
              </a:rPr>
              <a:t>               </a:t>
            </a:r>
            <a:r>
              <a:rPr b="1" lang="sr-Latn-CS" sz="3000" spc="-1" strike="noStrike">
                <a:solidFill>
                  <a:srgbClr val="274e75"/>
                </a:solidFill>
                <a:latin typeface="Arial"/>
              </a:rPr>
              <a:t>Netifoidne salmonele i trudnoća</a:t>
            </a:r>
            <a:endParaRPr b="0" lang="en-US" sz="30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06480" y="1689120"/>
            <a:ext cx="734544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Skriningom velike kohorte trudnica (30471) u vreme porođaja detektovane su NTS samo kod 60 (0.2%) žena, od kojih je 17 (28%; 17/60) imalo simptome. 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Od 60 rođenih beba, samo je 7 (11.7%; 7/60) izlučivalo NTS, a 5 (8.3%; 5/60) imalo enterokolitis.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Transplacentarna bakteremija može da se dogodi u uslovima maternalne NTS bakteremije i često je letalna za fetus. 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Opisana je i transmisija NTS putem majčinog mleka. 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590400"/>
            <a:ext cx="91440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274e75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5840" y="1603440"/>
            <a:ext cx="757728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Nema vodiča za empirijski tretman neonatusa sa poznatom maternalnom ekskrecijom NTS, ali zbog povećanog rizika od teške infekcije u ovoj uzrasnoj grupi treba razmotriti skrining neonatusa i tretman ukoliko se NTS detektuje u njegovoj stolici.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800" spc="-1" strike="noStrike">
                <a:solidFill>
                  <a:srgbClr val="274e75"/>
                </a:solidFill>
                <a:latin typeface="Times New Roman"/>
              </a:rPr>
              <a:t>Shigella spp.</a:t>
            </a:r>
            <a:endParaRPr b="0" lang="en-US" sz="4800" spc="-1" strike="noStrike">
              <a:solidFill>
                <a:srgbClr val="274e75"/>
              </a:solidFill>
              <a:latin typeface="Impact"/>
            </a:endParaRPr>
          </a:p>
        </p:txBody>
      </p:sp>
    </p:spTree>
  </p:cSld>
  <p:transition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-127080" y="67284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74e75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28800" y="1231920"/>
            <a:ext cx="777240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Times New Roman"/>
              </a:rPr>
              <a:t>U rodu </a:t>
            </a:r>
            <a:r>
              <a:rPr b="1" i="1" lang="sv-SE" sz="2800" spc="-1" strike="noStrike">
                <a:solidFill>
                  <a:srgbClr val="000000"/>
                </a:solidFill>
                <a:latin typeface="Times New Roman"/>
              </a:rPr>
              <a:t>Shigella </a:t>
            </a:r>
            <a:r>
              <a:rPr b="1" lang="sv-SE" sz="2800" spc="-1" strike="noStrike">
                <a:solidFill>
                  <a:srgbClr val="000000"/>
                </a:solidFill>
                <a:latin typeface="Times New Roman"/>
              </a:rPr>
              <a:t>postoje četiri vrste: </a:t>
            </a:r>
            <a:endParaRPr b="1" lang="en-US" sz="28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Aft>
                <a:spcPts val="174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2800" spc="-1" strike="noStrike">
                <a:solidFill>
                  <a:srgbClr val="000000"/>
                </a:solidFill>
                <a:latin typeface="Times New Roman"/>
              </a:rPr>
              <a:t>Shigella dysenteriae,</a:t>
            </a:r>
            <a:r>
              <a:rPr b="1" lang="sv-S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Aft>
                <a:spcPts val="174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2800" spc="-1" strike="noStrike">
                <a:solidFill>
                  <a:srgbClr val="000000"/>
                </a:solidFill>
                <a:latin typeface="Times New Roman"/>
              </a:rPr>
              <a:t>Shigella flexneri, </a:t>
            </a:r>
            <a:endParaRPr b="1" lang="en-US" sz="28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Aft>
                <a:spcPts val="174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2800" spc="-1" strike="noStrike">
                <a:solidFill>
                  <a:srgbClr val="000000"/>
                </a:solidFill>
                <a:latin typeface="Times New Roman"/>
              </a:rPr>
              <a:t>Shigella boydii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sv-S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Aft>
                <a:spcPts val="174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2800" spc="-1" strike="noStrike">
                <a:solidFill>
                  <a:srgbClr val="000000"/>
                </a:solidFill>
                <a:latin typeface="Times New Roman"/>
              </a:rPr>
              <a:t>Shigella sonnei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590400"/>
            <a:ext cx="914400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274e75"/>
                </a:solidFill>
                <a:latin typeface="Arial"/>
              </a:rPr>
              <a:t>Infektivnost</a:t>
            </a:r>
            <a:endParaRPr b="0" lang="en-US" sz="30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02880" y="1495080"/>
            <a:ext cx="7566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Eksperimenti na dobrovoljcima su pokazali da je potrebno manje od 100 vijabilnih ćelija da uzrokuje oboljenje kod zdravih odraslih, jer šigele mogu da prežive nizak pH želudačnog soka.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457200" indent="-45720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Ovako mali inokulum može da objasni prenošenje bolesti sa osobe na osobu, viši nivo sekundarnog ataka kada se indeks slučaj unese u porodicu i odgovor na pitanje zašto šigeloza predstavlja značajan problem u institucionalizovanim i prenaseljenim populacijama.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457200" indent="0">
              <a:lnSpc>
                <a:spcPct val="100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127080" y="67284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274e75"/>
                </a:solidFill>
                <a:latin typeface="Arial"/>
              </a:rPr>
              <a:t>Mukozna invazija i inflamacija</a:t>
            </a:r>
            <a:endParaRPr b="0" lang="en-US" sz="30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03160" y="1182600"/>
            <a:ext cx="777240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Šigele izazivaju oboljenje nakon invazije intestinalne mukoze. 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Šigela infekcija je superficijalna i retko organizam penetrira izvan mukoze, čime se objašnjava redak nalaz pozitivnih hemokultura uprkos čestom nalazu hiperpireksije i toksemije. 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Šigele invadiraju ćelije kolona i rektuma, uključujući M ćelije, makrofage i epitelne ćelije. 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Nakon invazije dolazi do intracelularne multiplikacije, širenja u susedne ćelije, ozbiljne inflamacije i dekstrukcije mukoze kolona. 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 algn="just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800" spc="-1" strike="noStrike">
                <a:solidFill>
                  <a:srgbClr val="274e75"/>
                </a:solidFill>
                <a:latin typeface="Times New Roman"/>
              </a:rPr>
              <a:t>Epidemiologija</a:t>
            </a:r>
            <a:endParaRPr b="0" lang="en-US" sz="4800" spc="-1" strike="noStrike">
              <a:solidFill>
                <a:srgbClr val="274e75"/>
              </a:solidFill>
              <a:latin typeface="Impact"/>
            </a:endParaRPr>
          </a:p>
        </p:txBody>
      </p:sp>
    </p:spTree>
  </p:cSld>
  <p:transition>
    <p:fade thruBlk="true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652320"/>
            <a:ext cx="91440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274e75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84160" y="1498680"/>
            <a:ext cx="734544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Procenjuje se da godišnje od šigeloze oboli oko 165 miliona ljudi, od čeg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100 miliona u zemljama u razvoju, s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od 1 milion smrtnih ishoda.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To je primarno oboljenje dece uzrasta od 6 meseci do 10 godina, odrasli često dobijaju bolest od dece. 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S. sonnei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S. flexneri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su najčešći uzroci bacilarne dizenterije u evropskim zemljama i USA, dok se u zemljama u razvoju (Afrika, Indija, Bangladeš) još uvek mogu videti široko rasprostranjene epidemije uzrokovane serotipom </a:t>
            </a: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S. dysenetraie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1, koji luči </a:t>
            </a: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Shiga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toksin.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652320"/>
            <a:ext cx="91440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274e75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84160" y="1498680"/>
            <a:ext cx="734544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Oboljenje se prenosi sa osobe na osobu, a može nastati i nakon konzumiranja kontaminirane hrane ili vode.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Nakon šigeloze bez antimikrobne terapije fekalna ekskrecija inficirajućeg soja traje od 1 do 4 nedelje. Dugotrajno </a:t>
            </a: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Shigella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kliconoštvo je retko. 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Kliconoše generalno reaguju na antimikrobnu terapiju.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467640"/>
            <a:ext cx="91440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274e75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42480" y="1252440"/>
            <a:ext cx="767556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Postoji preko 2500 serotipova </a:t>
            </a: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Salmonella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Serotipovi </a:t>
            </a: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Salmonella enterica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subspecies </a:t>
            </a: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enterica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ju definisana imena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za razliku od serotipova koji pripadaju drugim podvrstama (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označavaju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e antigenskom formulom). 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ena serotipova obeležavaju se velikim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početni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lovom i dobijena su prema oboljenju koje izazivaju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yphi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teritidis),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vrst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životinj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z koje su izolovani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Typhimurium) i u novije vreme prema imenu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držav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li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grad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u ko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m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u otkriveni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London).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800" spc="-1" strike="noStrike">
                <a:solidFill>
                  <a:srgbClr val="274e75"/>
                </a:solidFill>
                <a:latin typeface="Times New Roman"/>
              </a:rPr>
              <a:t>Klinička slika</a:t>
            </a:r>
            <a:endParaRPr b="0" lang="en-US" sz="4800" spc="-1" strike="noStrike">
              <a:solidFill>
                <a:srgbClr val="274e75"/>
              </a:solidFill>
              <a:latin typeface="Impact"/>
            </a:endParaRPr>
          </a:p>
        </p:txBody>
      </p:sp>
    </p:spTree>
  </p:cSld>
  <p:transition>
    <p:fade thruBlk="true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52320"/>
            <a:ext cx="91440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274e75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69760" y="1427040"/>
            <a:ext cx="734508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Descedentna infekcija intestinalnog trakta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Prvi simptomi mogu biti povraćanje, povišena T i abdominalni grčevi, praćeni voluminoznom vodenom stolicom tokom infekcije tankog creva, nakon čega dolazi do smanjenja T i povećanja broja stolica, koje su manjeg volumena kako kolon postaje inficiran. 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Tada može doći do pasaže krvave mukoidne stolice sa urgencijom za defeciranjem i tenezmima. 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800" spc="-1" strike="noStrike">
                <a:solidFill>
                  <a:srgbClr val="274e75"/>
                </a:solidFill>
                <a:latin typeface="Times New Roman"/>
              </a:rPr>
              <a:t>Antimikrobna terapija</a:t>
            </a:r>
            <a:endParaRPr b="0" lang="en-US" sz="4800" spc="-1" strike="noStrike">
              <a:solidFill>
                <a:srgbClr val="274e75"/>
              </a:solidFill>
              <a:latin typeface="Impact"/>
            </a:endParaRPr>
          </a:p>
        </p:txBody>
      </p:sp>
    </p:spTree>
  </p:cSld>
  <p:transition>
    <p:fade thruBlk="true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652320"/>
            <a:ext cx="91440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274e75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69760" y="1427040"/>
            <a:ext cx="734508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Zbog toga što je infekcija obično samoograničava- juće prirode i što se antibiotska rezistencija razvija u bakterijskim populacijama izloženim prolongiranoj upotrebi antibiotika, postoje mišljenja da antimikrobna terapija šigeloza treba da se rezerviše za najteže obolele pacijente. 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Međutim, zbog toga što se infekcija generalno prenosi sa osobe na osobu, a inficirane ili kolonizovane osobe predstavljaju glavni rezervoar, kao i zbog značaja po javno zdravlje, svakog pacijenta sa pozitivnom koprokulturom ili prepoznatom bacilarnom dizenterijom treba lečiti antibioticima. 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652320"/>
            <a:ext cx="91440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274e75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33120" y="1415880"/>
            <a:ext cx="7358040" cy="596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picilin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imetoprim/sulfametoksazol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- prema antibiogramu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Alternativni antibiotici su fluorohinoloni i cefalosporini III generacije – prema antibiogramu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Amoksicilin, prva i druga generacija cefalosporina i aminoglikozidi ne treba da se koriste za lečenje šigeloza jer slabo penetriraju u intestinalnu mukozu.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800" spc="-1" strike="noStrike">
                <a:solidFill>
                  <a:srgbClr val="274e75"/>
                </a:solidFill>
                <a:latin typeface="Times New Roman"/>
              </a:rPr>
              <a:t>Campylobacter </a:t>
            </a:r>
            <a:r>
              <a:rPr b="1" lang="sr-Latn-CS" sz="4800" spc="-1" strike="noStrike">
                <a:solidFill>
                  <a:srgbClr val="274e75"/>
                </a:solidFill>
                <a:latin typeface="Times New Roman"/>
              </a:rPr>
              <a:t>spp.</a:t>
            </a:r>
            <a:endParaRPr b="0" lang="en-US" sz="4800" spc="-1" strike="noStrike">
              <a:solidFill>
                <a:srgbClr val="274e75"/>
              </a:solidFill>
              <a:latin typeface="Impact"/>
            </a:endParaRPr>
          </a:p>
        </p:txBody>
      </p:sp>
    </p:spTree>
  </p:cSld>
  <p:transition>
    <p:fade thruBlk="true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652320"/>
            <a:ext cx="91440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274e75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84160" y="1498680"/>
            <a:ext cx="734544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Campylobacter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predstavljaju najčešći bakterijski uzročnik gastroenetritisa u svetu. 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U zemljama u razvoju </a:t>
            </a: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Campylobacter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infekcije kod dece mlađe od 2 godine su posebno česte, ponekad i sa smrtnim ishodom.  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Najčešće vrste iz roda </a:t>
            </a: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Campylobacter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koje uzrokuju enterična oboljenja kod ljudi  su </a:t>
            </a: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C. jejuni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C. coli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, dok se </a:t>
            </a: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C. lari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i  </a:t>
            </a: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C. upsaliensis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ređe izoluju. 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800" spc="-1" strike="noStrike">
                <a:solidFill>
                  <a:srgbClr val="274e75"/>
                </a:solidFill>
                <a:latin typeface="Times New Roman"/>
              </a:rPr>
              <a:t>Epidemiologija</a:t>
            </a:r>
            <a:endParaRPr b="0" lang="en-US" sz="4800" spc="-1" strike="noStrike">
              <a:solidFill>
                <a:srgbClr val="274e75"/>
              </a:solidFill>
              <a:latin typeface="Impact"/>
            </a:endParaRPr>
          </a:p>
        </p:txBody>
      </p:sp>
    </p:spTree>
  </p:cSld>
  <p:transition>
    <p:fade thruBlk="true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652320"/>
            <a:ext cx="91440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274e75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22400" y="1439640"/>
            <a:ext cx="7207200" cy="49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Kampilobakterioza je zoonoza raširena širom sveta.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sr-Latn-CS" sz="2000" spc="-1" strike="noStrike">
                <a:solidFill>
                  <a:srgbClr val="000000"/>
                </a:solidFill>
                <a:latin typeface="Times New Roman"/>
              </a:rPr>
              <a:t>Campylobacter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organizmi se obično nalaze kao komensali u gastrointestinalnom traktu divljih i domaćih goveda, ovaca, svinja, koza, pasa, mačaka, glodara i u svim vrstama živine. 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sr-Latn-CS" sz="2000" spc="-1" strike="noStrike">
                <a:solidFill>
                  <a:srgbClr val="000000"/>
                </a:solidFill>
                <a:latin typeface="Times New Roman"/>
              </a:rPr>
              <a:t>C. jejuni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ima veoma različite rezervoare, dok se </a:t>
            </a:r>
            <a:r>
              <a:rPr b="1" i="1" lang="sr-Latn-CS" sz="20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r-Latn-CS" sz="2000" spc="-1" strike="noStrike">
                <a:solidFill>
                  <a:srgbClr val="000000"/>
                </a:solidFill>
                <a:latin typeface="Times New Roman"/>
              </a:rPr>
              <a:t>coli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uglavnom izoluje kod svinja, a </a:t>
            </a:r>
            <a:r>
              <a:rPr b="1" i="1" lang="sr-Latn-CS" sz="2000" spc="-1" strike="noStrike">
                <a:solidFill>
                  <a:srgbClr val="000000"/>
                </a:solidFill>
                <a:latin typeface="Times New Roman"/>
              </a:rPr>
              <a:t>C. upsaliensis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kod pasa. 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Primarna akvizicija </a:t>
            </a:r>
            <a:r>
              <a:rPr b="1" i="1" lang="sr-Latn-CS" sz="2000" spc="-1" strike="noStrike">
                <a:solidFill>
                  <a:srgbClr val="000000"/>
                </a:solidFill>
                <a:latin typeface="Times New Roman"/>
              </a:rPr>
              <a:t>Campylobacter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vrsta kod životinja često nastaje rano u toku života i može dovesti do morbiditeta i mortaliteta, ali se kod većine kolonizovanih životinja razvija doživotno kliconoštvo. 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652320"/>
            <a:ext cx="91440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274e75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84160" y="1225440"/>
            <a:ext cx="734544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Meso poreklom od inficiranih životinja često postaje kontaminirano intestinalnim sadržajem tokom procesa klanja. Posebno, komercijalno uzgajana živina je gotovo uvek kolonizovana </a:t>
            </a: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C. jejuni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Procenjuje se da je konzumiranje nedovoljno termički obrađenog živinskog mesa odgovorno za 50-70% sporadičnih </a:t>
            </a: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Campylobacter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infekcija u razvijenim zemljama. 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Ekskreti iz inficiranih životinja mogu kontaminirati zemlju ili vodu. 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Većina infekcija kod ljudi je rezultat konzumiranja kontaminirane hrane (meso, nepasterizovano mleko) ili vode. 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127080" y="67284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274e75"/>
                </a:solidFill>
                <a:latin typeface="Arial"/>
              </a:rPr>
              <a:t>Salmoneloze</a:t>
            </a:r>
            <a:endParaRPr b="0" lang="en-US" sz="30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79480" y="1531800"/>
            <a:ext cx="777240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almoneloze  čoveka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s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gu manifestovati kao različiti sindromi: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foidne groznice (trbušni tifus i paratifus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zazivaju ih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yphi i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atyphi A,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,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To su striktni humani patogen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čovek je njihov jedini rezervoar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tifoidne salmoneloze (zoonoze) - koje izaziva bilo koji serotip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zuzev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yphi i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atyphi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terokolitis, septikemija, fokalne infekcije, kliconoštvo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 algn="just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652320"/>
            <a:ext cx="91440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274e75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84160" y="1225440"/>
            <a:ext cx="734544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Direktan kontakt sa inficiranim životinjama može rezultirati transmisijom. Kućni ljubimci,       posebno mladi kučići i mačići sa dijarejom, su implikovani kao vektori za kampilobakteriozu. 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Osobe u kontaktu sa ekskretima inficiranih osoba koje ne kontrolišu defekaciju (infanti) imaju rizik od infekcije. 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Perinatalna transmisija od majke (koja može da nema simptome) može nastati izlaganjem in utero, tokom prolaska kroz porođajni kanal majke ili tokom prvih dana života.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274e75"/>
                </a:solidFill>
                <a:latin typeface="Times New Roman"/>
              </a:rPr>
              <a:t>Patogeneza</a:t>
            </a:r>
            <a:endParaRPr b="0" lang="en-US" sz="4400" spc="-1" strike="noStrike">
              <a:solidFill>
                <a:srgbClr val="274e75"/>
              </a:solidFill>
              <a:latin typeface="Impact"/>
            </a:endParaRPr>
          </a:p>
        </p:txBody>
      </p:sp>
    </p:spTree>
  </p:cSld>
  <p:transition>
    <p:fade thruBlk="true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652320"/>
            <a:ext cx="91440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274e75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84160" y="1498680"/>
            <a:ext cx="734544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Ne dovode sve </a:t>
            </a: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Campylobacter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infekcije do oboljenja. Iako nisu poznati svi faktori odgovorni za ovaj fenomen, tri najznačajnija faktora su: inokulum organizma koji dospeva do tankog creva, virulentnost infektivnog soja i specifičan imunitet domaćina. 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Inkubacioni period varira od 1 -7 dana, najčešće 2-4 dana i obrnuto je proporcionalan ingestiranoj dozi.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652320"/>
            <a:ext cx="91440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274e75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84160" y="1498680"/>
            <a:ext cx="734544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C. jejuni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je osetljiv na želudačnu kiselinu. U jednoj studiji volonteri su oboleli nakon ingestije manje od 500 organizama, ali je pri dozama manjim od 10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organizama oboljenje manje često. 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Pacijenti koji koriste inhibitore protonske pumpe ili H2 blokatore su osetljiviji na infekciju. 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Vehikulumi, kao što su mleko, masna hrana i voda, koji favorizuju pasažu kroz barijeru gastrične kiseline, mogu omogućiti razvoj nekih infekcija i nakon relativno malog inokuluma. 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652320"/>
            <a:ext cx="91440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274e75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84160" y="1498680"/>
            <a:ext cx="734544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C. jejuni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se umnožava u žuči čoveka, karakteristika koja pomaže kolonizaciji tankog creva bogatog žuči u ranom stadijumu infekcije. 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Mesta tkivnog oštećenja obuhvataju jejunum, ileum i kolon.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Mikroskopski pregled uzoraka rektalnih bioptata pokazuje nespecifičan kolitis, pa se kampilobakterioza može interpretirati kao akutni ulcerativni kolitis ili Crohn-ovo oboljenje.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652320"/>
            <a:ext cx="91440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274e75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84160" y="1498680"/>
            <a:ext cx="734544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Nepostojanje animalnog modela, koji ne pripada primatima, a koji bi bio blisko analogan humanoj infekciji, otežava razumevanje patogeneze </a:t>
            </a: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Campylobacter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infekcije. 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Eksperimentalna ispitivanja kod majmuna i u </a:t>
            </a: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in vitro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uslovima potvrđuju invazivnost </a:t>
            </a: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C. jejuni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Prisustvo bakteremije kod nekih pacijenata, nalaz celularne infiltracije u bioptatima i prisustvo krvi u stolici, takođe, ukazuju na tkivnu invaziju. 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652320"/>
            <a:ext cx="91440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274e75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84160" y="1498680"/>
            <a:ext cx="734544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Spoljašnja membrana </a:t>
            </a: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Campylobacter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organizma sadrži lipopolisaharide sa tipičnom endotoksičnom aktivnošću. 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Struktura LPS O-antigena je veoma varijabilna. Mnogi </a:t>
            </a: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C. jejuni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O-antigeni poseduju strukture koje sadrže sijalinsku kiselinu. Bliska srodnost ovih struktura sa humanim gangliozidima i njihovo prisustvo u sojevima izolovanim od pacijenata koji razvijaju Guillain-Barre sindrom (GBS) ukazuju na ulogu u patogenezi ovog sindroma.  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652320"/>
            <a:ext cx="91440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274e75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84160" y="1498680"/>
            <a:ext cx="734544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U razvijenim zemljama pacijenti sa </a:t>
            </a: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Campylobacter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infekcijom izlučuju ovaj organizam u stolici u proseku 2 do 3 nedelje. 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Tri meseca nakon infekcije rekonvalescentno kliconoštvo je retko. 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U zemljama u razvoju, period rekonvalescentnog izlučivanja je još kraći, što ukazuje na visok nivo imuniteta u populaciji. 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800" spc="-1" strike="noStrike">
                <a:solidFill>
                  <a:srgbClr val="274e75"/>
                </a:solidFill>
                <a:latin typeface="Times New Roman"/>
              </a:rPr>
              <a:t>Kliničke manifestacije</a:t>
            </a:r>
            <a:endParaRPr b="0" lang="en-US" sz="4800" spc="-1" strike="noStrike">
              <a:solidFill>
                <a:srgbClr val="274e75"/>
              </a:solidFill>
              <a:latin typeface="Impact"/>
            </a:endParaRPr>
          </a:p>
        </p:txBody>
      </p:sp>
    </p:spTree>
  </p:cSld>
  <p:transition>
    <p:fade thruBlk="true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652320"/>
            <a:ext cx="91440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274e75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83800" y="1427040"/>
            <a:ext cx="7309080" cy="54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Akutni enteritis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je najčešća prezentacija </a:t>
            </a: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C. jejuni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infekcije.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Često postoji prodromalni stadijum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24h pre nastanka intestinalnih simptoma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(dijareja, malaksalost, temperatura i abdominalni bol). Simptomi mogu trajati od 1-7 dana.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Campylobacter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enteritis je često samoograničavajuće prirode sa postepenom rezolucijom simptoma tokom nekoliko dana. 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800" spc="-1" strike="noStrike">
                <a:solidFill>
                  <a:srgbClr val="274e75"/>
                </a:solidFill>
                <a:latin typeface="Times New Roman"/>
              </a:rPr>
              <a:t>Epidemiologija</a:t>
            </a:r>
            <a:endParaRPr b="0" lang="en-US" sz="4800" spc="-1" strike="noStrike">
              <a:solidFill>
                <a:srgbClr val="274e75"/>
              </a:solidFill>
              <a:latin typeface="Impact"/>
            </a:endParaRPr>
          </a:p>
        </p:txBody>
      </p:sp>
    </p:spTree>
  </p:cSld>
  <p:transition>
    <p:fade thruBlk="true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652320"/>
            <a:ext cx="91440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274e75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32040" y="1427040"/>
            <a:ext cx="7308720" cy="54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Infekcija se može manifestovati i kao </a:t>
            </a: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akutni kolitis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, pa se može zameniti sa ulcerativnim kolitisom ili Crohn-ovom bolešću.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Povremeno glavni ili jedini simptom infekcije može biti akutni abdominalni bol,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najčešće u desnom donjem kvadrantu (pseudoapendicitis). 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Slično, </a:t>
            </a: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Campylobacter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infekcija se može ponekad prezentovati jedino kao gastrointestinalna hemoragija. Kod neonatusa </a:t>
            </a: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C. jejuni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infekcija se može manifestovati kao jedna ili više jako krvavih stolica bez drugih znakova.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652320"/>
            <a:ext cx="91440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274e75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72640" y="1427040"/>
            <a:ext cx="7309080" cy="54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Bakteremija se notira kod manje od 1% pacijenata sa </a:t>
            </a: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C. jejuni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infekcijom i češća je kod osoba ekstremnih uzrasnih grupa. 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Procenjuje se da jedno od 1000 prijavljenih </a:t>
            </a: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Campylobacter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oboljenja rezultira Guillain-Barré sindromom, a da oko 40% slučajeva Guillain-Barré sindroma nastaje kao posledica </a:t>
            </a: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Campylobacter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infekcija.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800" spc="-1" strike="noStrike">
                <a:solidFill>
                  <a:srgbClr val="274e75"/>
                </a:solidFill>
                <a:latin typeface="Times New Roman"/>
              </a:rPr>
              <a:t>Terapija</a:t>
            </a:r>
            <a:endParaRPr b="0" lang="en-US" sz="4800" spc="-1" strike="noStrike">
              <a:solidFill>
                <a:srgbClr val="274e75"/>
              </a:solidFill>
              <a:latin typeface="Impact"/>
            </a:endParaRPr>
          </a:p>
        </p:txBody>
      </p:sp>
    </p:spTree>
  </p:cSld>
  <p:transition>
    <p:fade thruBlk="true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652320"/>
            <a:ext cx="91440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274e75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69760" y="1427040"/>
            <a:ext cx="734508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Campylobacter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enteritis je često samoograničavajuće prirode sa postepenom rezolucijom simptoma tokom nekoliko dana. 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Nadoknada tečnosti i elektrolita predstavlja osnov lečenja dijarejalnog oboljenja. 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Lečenje antibioticima je racionalno kod pacijenata sa visokom temperaturom, krvavom dijarejom ili velikim brojem stolica u toku dana; kod pacijenata kod kojih nije došlo do poboljšanja simptoma ili kod kojih je došlo do pogoršanja u vreme postavljanja dijagnoze; kao i kod pacijenata sa simptomima koji perzistiraju duže od nedelju dana. 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652320"/>
            <a:ext cx="91440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274e75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69760" y="1273320"/>
            <a:ext cx="734508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Zbog jednostavne primene, nedostatka ozbiljne toksičnosti i vidljive efektivnosti, eritromicin predstavlja lek izbora. 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Terapija klaritromicinom ili azitromicinom je jednako efektivna. 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Makrolidna rezistencija je u porastu u nekim delovima sveta, ali je manja od 5% u većini područja. 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Za razliku od </a:t>
            </a: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Salmonella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infekcija, lečenje antibioticima ne prolongira </a:t>
            </a: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C. jejuni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nosilaštvo. Naime, eritromicin eliminiše nosilaštvo nakon 72h kod većine pacijenata. 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652320"/>
            <a:ext cx="91440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274e75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56800" y="1461960"/>
            <a:ext cx="735804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Ciprofloksacin predstavlja alternativni antibiotik. Ipak, fluorohinoloni treba da se koriste sa oprezom, jer su povećani nivoi rezistencije na ove lekove ograničili njihovu korisnost u lečenju </a:t>
            </a: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Campylobacter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infekcija.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Nivoi rezistencije na ciprofloksacin od 10-20% su uobičajeni u velikom delu Evrope, a prelaze 50% u Španiji, Mađarskoj, kao i u zemljama u razvoju. 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652320"/>
            <a:ext cx="91440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274e75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69760" y="1427040"/>
            <a:ext cx="734508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Rapidan porast fluorohinolonske rezistencije među humanim </a:t>
            </a: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Campylobacter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izolatima se dešavao uporedo sa porastom rezistencije kod sojeva izolovanih od komercijalno uzgajane živine. 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Upotreba fluorohinolona kod živine u USA sredinom devedesetih godina je dovela do porasta nivoa rezistencije. 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Suočeni sa rastućim dokazima neželjenog uticaja na humano zdravlje, FDA je zabranila upotrebu fluorohinolona kod živine 2005. godine. 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800" spc="-1" strike="noStrike">
                <a:solidFill>
                  <a:srgbClr val="274e75"/>
                </a:solidFill>
                <a:latin typeface="Times New Roman"/>
              </a:rPr>
              <a:t>Yersinia enterocolitica</a:t>
            </a:r>
            <a:endParaRPr b="0" lang="en-US" sz="4800" spc="-1" strike="noStrike">
              <a:solidFill>
                <a:srgbClr val="274e75"/>
              </a:solidFill>
              <a:latin typeface="Impact"/>
            </a:endParaRPr>
          </a:p>
        </p:txBody>
      </p:sp>
    </p:spTree>
  </p:cSld>
  <p:transition>
    <p:fade thruBlk="true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652320"/>
            <a:ext cx="91440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274e75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69760" y="1427040"/>
            <a:ext cx="734508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Y. enterocolitica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pripada rodu </a:t>
            </a: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Yersina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, familiji </a:t>
            </a: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Enterobacteriaceae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. Opisano je više od 60 serotipova i nekoliko biotipova.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Većina sojeva izolovanih od pacijenata pripada serotipovima O:3, O:5,27, O:8 i O:9 i biotipovima 2,3 i 4. 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Y. enterocolitica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ne produkuje siderofore za transport gvožđa i zbog toga raste bolje u prisustvu drugih bakterija koje ih produkuju. Međutim, ona može da koristi depoe helatnog gvožđa domaćina i helatne agense, kao što je deferoksamin.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800" spc="-1" strike="noStrike">
                <a:solidFill>
                  <a:srgbClr val="274e75"/>
                </a:solidFill>
                <a:latin typeface="Times New Roman"/>
              </a:rPr>
              <a:t>Epidemiologija</a:t>
            </a:r>
            <a:endParaRPr b="0" lang="en-US" sz="4800" spc="-1" strike="noStrike">
              <a:solidFill>
                <a:srgbClr val="274e75"/>
              </a:solidFill>
              <a:latin typeface="Impact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127080" y="67284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000" spc="-1" strike="noStrike">
                <a:solidFill>
                  <a:srgbClr val="274e75"/>
                </a:solidFill>
                <a:latin typeface="Arial"/>
              </a:rPr>
              <a:t>S</a:t>
            </a:r>
            <a:r>
              <a:rPr b="1" lang="sr-Latn-CS" sz="3000" spc="-1" strike="noStrike">
                <a:solidFill>
                  <a:srgbClr val="274e75"/>
                </a:solidFill>
                <a:latin typeface="Arial"/>
              </a:rPr>
              <a:t>.Typhi i </a:t>
            </a:r>
            <a:r>
              <a:rPr b="1" i="1" lang="sr-Latn-CS" sz="3000" spc="-1" strike="noStrike">
                <a:solidFill>
                  <a:srgbClr val="274e75"/>
                </a:solidFill>
                <a:latin typeface="Arial"/>
              </a:rPr>
              <a:t>S</a:t>
            </a:r>
            <a:r>
              <a:rPr b="1" lang="sr-Latn-CS" sz="3000" spc="-1" strike="noStrike">
                <a:solidFill>
                  <a:srgbClr val="274e75"/>
                </a:solidFill>
                <a:latin typeface="Arial"/>
              </a:rPr>
              <a:t>. Paratyphi</a:t>
            </a:r>
            <a:endParaRPr b="0" lang="en-US" sz="30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03160" y="1182600"/>
            <a:ext cx="777240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Globalni svetski problem, sa oko 21.6 miliona slučajeva uzrokovanih </a:t>
            </a: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. Typhi i oko 5.5 miliona slučajeva uzrokovanih </a:t>
            </a: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. Paratyphi A, B i C na godišnjem nivou.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Procenjuje se da godišnje od enterične groznice umre od 200.000 do 600.000 ljudi. 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Najčešće prenošenje hranom i vodom nastaje kao rezultat fekalne kontaminacije od strane bolesnih ili asimptomatskih hroničnih nosilaca.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Iako je direktno prenošenje sa osobe na osobu retko, </a:t>
            </a: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. Typhi se može preneti seksualnim putem.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652320"/>
            <a:ext cx="91440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274e75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84160" y="1498680"/>
            <a:ext cx="734544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Y. enterocolitica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je široko rasprostranjena u svetu. Može se izolovati iz brojnih izvora u okolnoj sredini, uključujući svežu vodu, kontaminiranu hranu i širok spektar divljih i domaćih životinja. 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Većina izolata u Evropi pripada serotipovima O:3 i O:9, a u Kanadi i USA serotipovima O:3 i O:8. 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Većina slučajeva enterokolitisa se javlja u uzrasnoj grupi od 1do 4 godine, dok se mezenterijski adenitis i terminalni ileitis češće javljaju kod starije dece i mlađih odraslih.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652320"/>
            <a:ext cx="91440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274e75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84160" y="1498680"/>
            <a:ext cx="734544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Transmisija infekcije se dešava nakon ingestije kontaminirane hrane ili vode ili, ređe, direktnim kontaktom sa inficiranim životinjama ili pacijentima.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Zoonotski rezervoari </a:t>
            </a: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Y. enterocolitica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su različiti, uključujući svinje, glodare, zečeve, ovce, goveda, konje, pse i mačke. 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Pretpostavlja se da može doći do transmisije infekcije na čoveka nakon kontakta sa kućnim ljubimcima (psima i mačkama) ili njihovim fecesom.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652320"/>
            <a:ext cx="91440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274e75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84160" y="1498680"/>
            <a:ext cx="734544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Y. enterocolitica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je često prisutna na tonzilama i u alimentarnom traktu svinja, a transmisija infekcije može nastati ingestijom nekompletno termički obrađene hrane svinjskog porekla.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Studija sprovedena u Finskoj je pokazala da mesari imaju povećan rizik od infekcije.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Sposobnost organizma da raste na 4°C omogućava da meso čuvano u frižideru može biti izvor infekcije.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Feko-oralni put infekcije omogućava sekundarnu infekciju unutar domaćinstva.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652320"/>
            <a:ext cx="91440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274e75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84160" y="1498680"/>
            <a:ext cx="734544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Osobe sa oslabljenim imunim sistemom imaju povećan rizik od razvoja septikemije i fokalnih metastatskih infekcija. 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Lečenje pacijenata preoterećenih gvožđem pomoću deferoksamina je posebno udruženo sa </a:t>
            </a: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Yersnia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sepsom, zato što helatori gvožđa olakšavaju rast </a:t>
            </a: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Yersinia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organizama i inhibiraju odbranu polimorfonuklearima.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Y. enterocolitica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se može razmnožavati u pohranjenoj krvi. Banke krvi su bile izvor sepse, rezultujući šokom i smrtnim ishodom. 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800" spc="-1" strike="noStrike">
                <a:solidFill>
                  <a:srgbClr val="274e75"/>
                </a:solidFill>
                <a:latin typeface="Times New Roman"/>
              </a:rPr>
              <a:t>Patogeneza</a:t>
            </a:r>
            <a:endParaRPr b="0" lang="en-US" sz="4800" spc="-1" strike="noStrike">
              <a:solidFill>
                <a:srgbClr val="274e75"/>
              </a:solidFill>
              <a:latin typeface="Impact"/>
            </a:endParaRPr>
          </a:p>
        </p:txBody>
      </p:sp>
    </p:spTree>
  </p:cSld>
  <p:transition>
    <p:fade thruBlk="true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652320"/>
            <a:ext cx="91440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274e75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58320" y="1662120"/>
            <a:ext cx="727092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Veličina inokulima iznosi oko 10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organizama.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Nakon inkubacije od 4 -7 dana infekcija rezultira ulceracijama mukoze terminalnog ileuma, nekrotičnim lezijama u Pejerovim pločama i povećanjem mezenterijskih limfnih žlezda.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Apendiks ima normalan histološki izgled ili pokazuje blagu inflamaciju. 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800" spc="-1" strike="noStrike">
                <a:solidFill>
                  <a:srgbClr val="274e75"/>
                </a:solidFill>
                <a:latin typeface="Times New Roman"/>
              </a:rPr>
              <a:t>Kliničke manifestacije</a:t>
            </a:r>
            <a:endParaRPr b="0" lang="en-US" sz="4800" spc="-1" strike="noStrike">
              <a:solidFill>
                <a:srgbClr val="274e75"/>
              </a:solidFill>
              <a:latin typeface="Impact"/>
            </a:endParaRPr>
          </a:p>
        </p:txBody>
      </p:sp>
    </p:spTree>
  </p:cSld>
  <p:transition>
    <p:fade thruBlk="true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652320"/>
            <a:ext cx="91440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274e75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84160" y="1498680"/>
            <a:ext cx="734544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Enterokolitis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(povraćanje, povišena T, dijareja i abdominalni bol) obuhvata dve trećine prijavljenih simptomatskih </a:t>
            </a: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Y. enterocolitica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infekcija i traje 1 do 3 nedelje.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Mezenterijski adenitis ili terminalni ileitis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     (povišena T, bol i osetljivost u desnom donjem kvadrantu abdomena i leukocitoza) je češći kod starije dece i adolescenata i može klinički ličiti na akutni apendicitis. 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652320"/>
            <a:ext cx="91440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274e75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84160" y="1498680"/>
            <a:ext cx="734544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Reaktivni poliartritis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se javlja kao komplikacija kod oko 15% pacijenata. On počinje nekoliko dana do mesec dana nakon nastanka akutne dijareje. 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Kod dve trećine pacijenata simptomi perzistiraju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1 meseca, a kod jedne trećin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4 meseca. 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Nakon 12 meseci većina pacijenata je asimptomatska, dok mali broj može imati perzistentan bol u donjem delu leđa (uključujući sakroilitis) što je specifično povezano sa prisustvom HLA-B27 antigena.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652320"/>
            <a:ext cx="91440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274e75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84160" y="1498680"/>
            <a:ext cx="734544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Erythema nodosum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nastaje ko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30% slučajeva     (2 puta češće kod žena). Kožne lezije se tipično javljaju na nogama i trupu 2 -20 dana nakon pojave povišene T i abdominalnog bola i nestaju spontano nakon mesec dana. 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Septikemija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je retka, ali teška komplikacija, često sa fatalnih ishodom. Najčešće se javlja kod imunokom-promitovanih i pacijenata sa preoptrećenošću gvožđem.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127080" y="67284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274e75"/>
                </a:solidFill>
                <a:latin typeface="Arial"/>
              </a:rPr>
              <a:t>       </a:t>
            </a:r>
            <a:endParaRPr b="0" lang="en-US" sz="30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7640" y="1318680"/>
            <a:ext cx="8007120" cy="538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U periodu od 1970-1989. godine sojevi </a:t>
            </a: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. Typhi su razvili plazmidski posredovanu višestruku rezistenciju (multidrug resistance, MDR) na prvu liniju antimikrobnih lekova - hloramfenikol, ampicilin i trimetoprim u mnogim regionima sveta, posebno na Indijskom podkontinentu i u južnoj Aziji.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Devedesetih godina prošlog veka, kao rezultat povećane upotrebe fluorohinolona u lečenju MDR tifoidne groznice, došlo je do pojave hromozomski i plazmidski kodirane rezistencije na ciprofloksacin kod sojeva </a:t>
            </a: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. Typhi i </a:t>
            </a: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. Paratyphi A na Indijskom podkontinentu i u južnoj Aziji.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 algn="just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800" spc="-1" strike="noStrike">
                <a:solidFill>
                  <a:srgbClr val="274e75"/>
                </a:solidFill>
                <a:latin typeface="Times New Roman"/>
              </a:rPr>
              <a:t>Antimikrobna terapija</a:t>
            </a:r>
            <a:endParaRPr b="0" lang="en-US" sz="4800" spc="-1" strike="noStrike">
              <a:solidFill>
                <a:srgbClr val="274e75"/>
              </a:solidFill>
              <a:latin typeface="Impact"/>
            </a:endParaRPr>
          </a:p>
        </p:txBody>
      </p:sp>
    </p:spTree>
  </p:cSld>
  <p:transition>
    <p:fade thruBlk="true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652320"/>
            <a:ext cx="91440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274e75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69760" y="1427040"/>
            <a:ext cx="734508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Enterokolitis i mezenterijski adenitis su u većini slučajeva samo-ograničavajuće prirode, pa antimikrobna terapija često nije potrebna. 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Kod pacijenata koji su ozbiljno bolesni ili imaju znakove sistemskog oboljenja, izbor antibiotika treba da bude baziran na rezultatima antibiograma (trimetoprim-sulfametoksazol,  ciprofloksacin, ceftriakson, cefotaksim). 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652320"/>
            <a:ext cx="91440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274e75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84160" y="1498680"/>
            <a:ext cx="734544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Y. enterocolitica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je urođeno rezistentna na penicilin, ampicilin, amoksicilin-klavulanat, tikarcilin i prvu generaciju cefalosporina (cefazolin, cefalotin).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Iako izolati </a:t>
            </a: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Y. enterocolitica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mogu biti </a:t>
            </a: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in vitro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osetljivi na aminoglikozide, ovi antibiotici ne treba da budu inicijalni terapijski izbor, zbog prijavljenih neuspeha ovih lekova u eradikaciji sistemske infekcije.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44748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274e75"/>
                </a:solidFill>
                <a:latin typeface="Arial"/>
              </a:rPr>
              <a:t>Literatura</a:t>
            </a:r>
            <a:endParaRPr b="0" lang="en-US" sz="30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79480" y="1280880"/>
            <a:ext cx="7772400" cy="49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90000"/>
              </a:lnSpc>
              <a:spcAft>
                <a:spcPts val="100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Mandell GL, Bennett JE, Dolin R.  Principles and Practice of Infectious Diseases. Seventh edition, 2010. Churchill Livingstone Elsevier ISBN:978-0-4430-6839-3 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457200" indent="-457200" algn="just">
              <a:lnSpc>
                <a:spcPct val="90000"/>
              </a:lnSpc>
              <a:spcAft>
                <a:spcPts val="100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Haeusler GM, Curtis N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n-typhoidal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lmonella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ildren: Microbiology, Epidemiology and Treatment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. Curtis et al. (eds.), Hot Topics in Infection and Immunity in Children IX, Advances in Experimental Medicine and Biology 764,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OI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.1007/978-1-4614-4726-9_2, Springer Science+Business Media New York 2013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457200" indent="-457200" algn="just">
              <a:lnSpc>
                <a:spcPct val="90000"/>
              </a:lnSpc>
              <a:spcAft>
                <a:spcPts val="100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inical and Laboratory Standards Institute. Performance standards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antimicrobial susceptibility testing; twenty-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fourth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informational supplement. CLSI document M100-S2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 Wayne, PA: Clinical and Laboratory Standards Institute; 201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457200" indent="-457200" algn="just">
              <a:lnSpc>
                <a:spcPct val="90000"/>
              </a:lnSpc>
              <a:spcAft>
                <a:spcPts val="100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 Health Organization.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uidelines for the control of  shigellosis, including epidemics due to Shigella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ysenteriae 1.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2005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SBN  92 4 159233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127080" y="67284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274e75"/>
                </a:solidFill>
                <a:latin typeface="Arial"/>
              </a:rPr>
              <a:t>Netifoidne salmonele</a:t>
            </a:r>
            <a:endParaRPr b="0" lang="en-US" sz="30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17560" y="1393560"/>
            <a:ext cx="7772400" cy="49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Netifoidne salmonele se mogu steći iz različitih životinjskih rezervoara: 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konzumiranjem kontaminirane hrane životinjskog porekla (jaja, živinsko meso, mleveno meso, mlečni produkti);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konzumiranjem svežih produkta kontaminiranih životinjskim fecesom (povrće i voće);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kontaktom sa inficiranim životinjama ili njihovim okruženjem;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kontaminiranom vodom.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 algn="just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6T19:46:20Z</dcterms:created>
  <dc:creator>Nidza</dc:creator>
  <dc:description/>
  <dc:language>en-US</dc:language>
  <cp:lastModifiedBy>Milena MV. Vasic</cp:lastModifiedBy>
  <dcterms:modified xsi:type="dcterms:W3CDTF">2014-11-28T15:27:59Z</dcterms:modified>
  <cp:revision>317</cp:revision>
  <dc:subject/>
  <dc:title>Fenotipske i genotipske karakteristike sojeva Streptococcus pyogenes rezistentnih na makrolide</dc:title>
</cp:coreProperties>
</file>